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2BFF-8628-4246-A106-AD1C336C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924F-3608-4B3A-9ED0-DFFF4F84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D203-E1E5-4BDB-B642-52969102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D3D8-B521-4171-9A09-9B67EF0A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90E1-7C26-48A8-857E-91D9B94B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4EDC-A0D6-4492-A185-DAEAE75A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C0F6-1D77-4438-BD64-B7190BF9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010F-D751-41A8-A059-CB481621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210F-A0C5-4112-926A-60C71ECF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666D-15BA-4CE3-BED4-4D9E1CF5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E864-F14B-4CD8-B7FC-87DBC393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ABC4-DF36-460C-ACAE-B827A326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9BEA-ECEA-4854-9D79-518D283F9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66840" y="965160"/>
            <a:ext cx="8410320" cy="4932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636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229600" cy="1143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99"/>
                </a:solidFill>
                <a:latin typeface="Arial"/>
              </a:rPr>
              <a:t>Мне 2</a:t>
            </a:r>
            <a:r>
              <a:rPr b="1" lang="en-US" sz="96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 рейтинге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op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3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609480" y="1600200"/>
          <a:ext cx="8077320" cy="4610160"/>
        </p:xfrm>
        <a:graphic>
          <a:graphicData uri="http://schemas.openxmlformats.org/drawingml/2006/table">
            <a:tbl>
              <a:tblPr/>
              <a:tblGrid>
                <a:gridCol w="4038840"/>
                <a:gridCol w="4038480"/>
              </a:tblGrid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ктивных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айт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66 46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а всю историю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73 94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364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сло сайтов в категор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841068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364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ли сект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66840" y="961920"/>
            <a:ext cx="841032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364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сло сайтов в категор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841068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36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сло сайтов в категор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41068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727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ий досту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3840" y="1600200"/>
            <a:ext cx="8126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658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ий доступ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тем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9800" y="1600200"/>
            <a:ext cx="8126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658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фера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280" y="1424160"/>
            <a:ext cx="876312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35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уточная аудитория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1828800"/>
            <a:ext cx="0" cy="380880"/>
          </a:xfrm>
          <a:prstGeom prst="line">
            <a:avLst/>
          </a:prstGeom>
          <a:ln w="69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30592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947200" y="1981080"/>
            <a:ext cx="25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милли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5120" y="5878440"/>
            <a:ext cx="48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Источник данных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: Rambler’s Top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9960" y="624852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* включая иностран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36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Российска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аудитория Рун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66840" y="961920"/>
            <a:ext cx="841032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364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Российска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аудитория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ун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66840" y="961920"/>
            <a:ext cx="841032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364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Российска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удитор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Рун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66840" y="961920"/>
            <a:ext cx="841032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364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Российска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удитор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Рун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66840" y="961920"/>
            <a:ext cx="841032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364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которые проекты растут ещё быстр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841032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364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продолжат расти очень быст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841068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364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 реализуют возможности не 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841068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18:03:10Z</dcterms:created>
  <dc:creator>delitsin</dc:creator>
  <dc:description/>
  <dc:language>en-US</dc:language>
  <cp:lastModifiedBy>Borin</cp:lastModifiedBy>
  <dcterms:modified xsi:type="dcterms:W3CDTF">2006-03-16T05:39:59Z</dcterms:modified>
  <cp:revision>116</cp:revision>
  <dc:subject/>
  <dc:title>Rambler/Mail daily audience ratio</dc:title>
</cp:coreProperties>
</file>